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gif" ContentType="image/gif"/>
  <Override PartName="/ppt/media/image14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jpeg" ContentType="image/jpeg"/>
  <Override PartName="/ppt/media/image8.gif" ContentType="image/gi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0E5-78D3-469D-A54D-57A5B36C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D74-FF23-4931-86CF-A35CBE84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0D75-244E-47DE-AB68-97EF785E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940-4FBC-4ABD-A2AE-FCD29E43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D0A2-6B93-43F4-A922-CF3DE7D9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50C-E255-4D26-A733-8DD1EA2D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304-A591-4BF7-B24D-EC29C85B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7D5-4A72-4D94-BAF8-001EAF56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2A5-F3AA-4FCB-92EA-E4AB6829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A70-1252-471C-8C2A-77FB4D24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2BE-874D-449F-8642-829593DF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E96-381A-40B5-BEFA-1E348E86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5DF2-D61B-45E3-BBC0-DFF9FF221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685800"/>
            <a:ext cx="453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8000" spc="-1" strike="noStrike">
                <a:solidFill>
                  <a:srgbClr val="009900"/>
                </a:solidFill>
                <a:latin typeface="Arial"/>
              </a:rPr>
              <a:t>ОРО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63440" y="4267080"/>
            <a:ext cx="300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БА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9627" t="17828" r="12991" b="8177"/>
          <a:stretch/>
        </p:blipFill>
        <p:spPr>
          <a:xfrm>
            <a:off x="4800600" y="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3200400" cy="259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86200" y="426708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426708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02560" y="228600"/>
            <a:ext cx="358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МА – ТЕ - 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8960" y="1371600"/>
            <a:ext cx="300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ПЕНЬ - 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1240" y="2590920"/>
            <a:ext cx="255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ОТЪ - 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0320" y="3657600"/>
            <a:ext cx="26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ЧАЙ - 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7720" y="4648320"/>
            <a:ext cx="208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0920" y="5715000"/>
            <a:ext cx="25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КАС - 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86760" y="228600"/>
            <a:ext cx="30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МАТЕР - 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14120" y="1295280"/>
            <a:ext cx="300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ПЕН - Ь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760" y="2514600"/>
            <a:ext cx="255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ОТ - Ъ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63160" y="3657600"/>
            <a:ext cx="25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ЧА- 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2040" y="4724280"/>
            <a:ext cx="255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О - 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77840" y="5791320"/>
            <a:ext cx="25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КА - 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>
            <a:off x="5638680" y="5791320"/>
            <a:ext cx="2514600" cy="761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5791320" y="4724280"/>
            <a:ext cx="251460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5715000" y="3657600"/>
            <a:ext cx="251460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5562720" y="2590920"/>
            <a:ext cx="2514600" cy="761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>
            <a:off x="5715000" y="1295280"/>
            <a:ext cx="251460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867280" y="228600"/>
            <a:ext cx="251460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 flipH="1">
            <a:off x="5638680" y="5791320"/>
            <a:ext cx="2438640" cy="83808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 flipH="1">
            <a:off x="5790960" y="4648320"/>
            <a:ext cx="2438280" cy="83808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 flipH="1">
            <a:off x="5790960" y="3581280"/>
            <a:ext cx="2438280" cy="83844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 flipH="1">
            <a:off x="5562360" y="2514600"/>
            <a:ext cx="2438280" cy="83808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5714640" y="1295280"/>
            <a:ext cx="2438280" cy="83844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 flipH="1">
            <a:off x="5943240" y="228600"/>
            <a:ext cx="2438280" cy="83808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4"/>
          <p:cNvSpPr txBox="1"/>
          <p:nvPr/>
        </p:nvSpPr>
        <p:spPr>
          <a:xfrm>
            <a:off x="990720" y="304920"/>
            <a:ext cx="701028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바탕"/>
              </a:rPr>
              <a:t>  </a:t>
            </a: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바탕"/>
              </a:rPr>
              <a:t>СПАСИБО </a:t>
            </a:r>
            <a:endParaRPr b="1" lang="en-US" sz="8000" spc="1" strike="noStrike">
              <a:ln w="25560">
                <a:solidFill>
                  <a:srgbClr val="000000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바탕"/>
              <a:ea typeface="바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바탕"/>
              </a:rPr>
              <a:t>ЗА</a:t>
            </a:r>
            <a:endParaRPr b="1" lang="en-US" sz="8000" spc="1" strike="noStrike">
              <a:ln w="25560">
                <a:solidFill>
                  <a:srgbClr val="000000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바탕"/>
              <a:ea typeface="바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바탕"/>
              </a:rPr>
              <a:t>УРОК!</a:t>
            </a:r>
            <a:endParaRPr b="1" lang="en-US" sz="8000" spc="1" strike="noStrike">
              <a:ln w="25560">
                <a:solidFill>
                  <a:srgbClr val="000000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바탕"/>
              <a:ea typeface="바탕"/>
            </a:endParaRPr>
          </a:p>
        </p:txBody>
      </p:sp>
      <p:pic>
        <p:nvPicPr>
          <p:cNvPr id="92" name="Picture 6" descr="C:\Documents and Settings\Администратор\Рабочий стол\аниме животные\animal145.gif"/>
          <p:cNvPicPr/>
          <p:nvPr/>
        </p:nvPicPr>
        <p:blipFill>
          <a:blip r:embed="rId2"/>
          <a:stretch/>
        </p:blipFill>
        <p:spPr>
          <a:xfrm>
            <a:off x="533520" y="2514600"/>
            <a:ext cx="1981080" cy="2209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651640" y="2708280"/>
            <a:ext cx="2881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762120"/>
            <a:ext cx="60958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9966ff"/>
                    </a:gs>
                    <a:gs pos="50000">
                      <a:srgbClr val="462f75"/>
                    </a:gs>
                    <a:gs pos="100000">
                      <a:srgbClr val="9966ff"/>
                    </a:gs>
                  </a:gsLst>
                  <a:lin ang="5400000"/>
                </a:gradFill>
                <a:latin typeface="Bookman Old Style"/>
              </a:rPr>
              <a:t>ПЕРЕНОС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9966ff"/>
                  </a:gs>
                  <a:gs pos="50000">
                    <a:srgbClr val="462f75"/>
                  </a:gs>
                  <a:gs pos="100000">
                    <a:srgbClr val="9966ff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9966ff"/>
                    </a:gs>
                    <a:gs pos="50000">
                      <a:srgbClr val="462f75"/>
                    </a:gs>
                    <a:gs pos="100000">
                      <a:srgbClr val="9966ff"/>
                    </a:gs>
                  </a:gsLst>
                  <a:lin ang="5400000"/>
                </a:gradFill>
                <a:latin typeface="Bookman Old Style"/>
              </a:rPr>
              <a:t>СЛОВ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9966ff"/>
                  </a:gs>
                  <a:gs pos="50000">
                    <a:srgbClr val="462f75"/>
                  </a:gs>
                  <a:gs pos="100000">
                    <a:srgbClr val="9966ff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  <p:pic>
        <p:nvPicPr>
          <p:cNvPr id="48" name="Picture 6" descr="C:\Documents and Settings\Администратор\Рабочий стол\аниме люди\22л.gif"/>
          <p:cNvPicPr/>
          <p:nvPr/>
        </p:nvPicPr>
        <p:blipFill>
          <a:blip r:embed="rId1"/>
          <a:stretch/>
        </p:blipFill>
        <p:spPr>
          <a:xfrm>
            <a:off x="5334120" y="2286000"/>
            <a:ext cx="3504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21880" y="542880"/>
            <a:ext cx="53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ookman Old Style"/>
              </a:rPr>
              <a:t>МА - ТЕР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7840" y="3657600"/>
            <a:ext cx="53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ookman Old Style"/>
              </a:rPr>
              <a:t>МАТЕ - Р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7638" t="0" r="833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1332000" y="333360"/>
            <a:ext cx="7126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ПЕНЬК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ПЕНЬ - К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Documents and Settings\Администратор\Рабочий стол\аниме животные\kroiwn.gif"/>
          <p:cNvPicPr/>
          <p:nvPr/>
        </p:nvPicPr>
        <p:blipFill>
          <a:blip r:embed="rId2"/>
          <a:stretch/>
        </p:blipFill>
        <p:spPr>
          <a:xfrm>
            <a:off x="4859280" y="2602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609480" y="228600"/>
            <a:ext cx="75438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ОТЪЕ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ОТЪ - Е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15240" y="468360"/>
            <a:ext cx="420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Bookman Old Style"/>
              </a:rPr>
              <a:t>ЧАЙ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90800" y="4343400"/>
            <a:ext cx="514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Bookman Old Style"/>
              </a:rPr>
              <a:t>ЧАЙ - 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685800" y="990720"/>
            <a:ext cx="75438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ОСЕН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ОСЕН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685800" y="990720"/>
            <a:ext cx="7620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КАСС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КАС - С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11</cp:lastModifiedBy>
  <dcterms:modified xsi:type="dcterms:W3CDTF">2008-02-13T10:19:4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